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924-1545-4F02-AA22-7D98300F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280-AEAE-4112-B7D2-1D16A416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229-5A69-4DF0-84C4-7DDF1DEE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9E0-E027-444F-AEC6-8AD9EFF3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57C-130A-417D-ABF2-C5CAC40F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7A4-4A4A-4258-BD63-9E25307A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806-CE0D-4621-BFC7-84786635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EE0-68E6-4580-9672-DD892404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85C-4EC3-44CD-A50A-338DB85B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DF8-BEE5-4AE9-9DD4-7437A94C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B02-1B2B-4D81-9B3F-8655E1B0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FFE-96A4-4775-AF5B-83A3E2EB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385A67-FD2A-4E5C-B67D-755AAD78E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Pedro J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B52-1A5B-401B-81E4-284A3378D602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FE7-D3B3-434F-8F57-42FF6B0C56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E7A-416C-4C15-8DD9-1E94841EA53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C3F1-0C13-4023-B44D-DAD5487A7D9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75480" y="-1460520"/>
            <a:ext cx="11450520" cy="6261120"/>
            <a:chOff x="375480" y="-1460520"/>
            <a:chExt cx="11450520" cy="6261120"/>
          </a:xfrm>
        </p:grpSpPr>
        <p:sp>
          <p:nvSpPr>
            <p:cNvPr id="142" name="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35120" y="-1460520"/>
              <a:ext cx="11090880" cy="6261120"/>
              <a:chOff x="735120" y="-1460520"/>
              <a:chExt cx="11090880" cy="62611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60000">
                <a:off x="849240" y="-5558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0000">
                <a:off x="963720" y="-1025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0000">
                <a:off x="1127520" y="-1367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4400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993-D955-4D19-A5A6-BB7227AA8D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0000">
            <a:off x="9730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60000">
            <a:off x="11257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60000">
            <a:off x="858960" y="99360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895480"/>
            <a:ext cx="426708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0"/>
                </a:moveTo>
                <a:cubicBezTo>
                  <a:pt x="4" y="168"/>
                  <a:pt x="8" y="336"/>
                  <a:pt x="48" y="480"/>
                </a:cubicBezTo>
                <a:cubicBezTo>
                  <a:pt x="88" y="624"/>
                  <a:pt x="104" y="768"/>
                  <a:pt x="240" y="864"/>
                </a:cubicBezTo>
                <a:cubicBezTo>
                  <a:pt x="376" y="960"/>
                  <a:pt x="608" y="992"/>
                  <a:pt x="864" y="1056"/>
                </a:cubicBezTo>
                <a:cubicBezTo>
                  <a:pt x="1120" y="1120"/>
                  <a:pt x="1472" y="1200"/>
                  <a:pt x="1776" y="1248"/>
                </a:cubicBezTo>
                <a:cubicBezTo>
                  <a:pt x="2080" y="1296"/>
                  <a:pt x="2528" y="1328"/>
                  <a:pt x="2688" y="134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496-9013-40DA-BC1C-F4E890A471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4320" y="2360160"/>
            <a:ext cx="424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CG Times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CG Times"/>
              </a:rPr>
              <a:t>:  Volumen de negocios 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($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CG Times"/>
              </a:rPr>
              <a:t>C</a:t>
            </a:r>
            <a:r>
              <a:rPr b="1" lang="es-CL" sz="2400" spc="-1" strike="noStrike">
                <a:solidFill>
                  <a:srgbClr val="ffffff"/>
                </a:solidFill>
                <a:latin typeface="CG Times"/>
              </a:rPr>
              <a:t>:  Costos de operación 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($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CG Times"/>
              </a:rPr>
              <a:t>R</a:t>
            </a:r>
            <a:r>
              <a:rPr b="1" lang="es-CL" sz="2400" spc="-1" strike="noStrike">
                <a:solidFill>
                  <a:srgbClr val="ffffff"/>
                </a:solidFill>
                <a:latin typeface="CG Times"/>
              </a:rPr>
              <a:t>:  Costo suelo 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($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CG Times"/>
              </a:rPr>
              <a:t>G</a:t>
            </a:r>
            <a:r>
              <a:rPr b="1" lang="es-CL" sz="2400" spc="-1" strike="noStrike">
                <a:solidFill>
                  <a:srgbClr val="ffffff"/>
                </a:solidFill>
                <a:latin typeface="CG Times"/>
              </a:rPr>
              <a:t>:  Profit o ganancia</a:t>
            </a:r>
            <a:r>
              <a:rPr b="1" lang="es-CL" sz="2400" spc="-1" strike="noStrike">
                <a:solidFill>
                  <a:srgbClr val="ffffff"/>
                </a:solidFill>
                <a:latin typeface="CG Times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($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97280" y="2208600"/>
            <a:ext cx="248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CG Times"/>
              </a:rPr>
              <a:t>V</a:t>
            </a:r>
            <a:r>
              <a:rPr b="1" lang="es-CL" sz="3200" spc="-1" strike="noStrike">
                <a:solidFill>
                  <a:srgbClr val="ffffff"/>
                </a:solidFill>
                <a:latin typeface="CG Times"/>
              </a:rPr>
              <a:t> = </a:t>
            </a:r>
            <a:r>
              <a:rPr b="1" i="1" lang="es-CL" sz="3200" spc="-1" strike="noStrike">
                <a:solidFill>
                  <a:srgbClr val="ffffff"/>
                </a:solidFill>
                <a:latin typeface="CG Times"/>
              </a:rPr>
              <a:t>V(t,q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CG Times"/>
              </a:rPr>
              <a:t>C</a:t>
            </a:r>
            <a:r>
              <a:rPr b="1" lang="es-CL" sz="3200" spc="-1" strike="noStrike">
                <a:solidFill>
                  <a:srgbClr val="ffffff"/>
                </a:solidFill>
                <a:latin typeface="CG Times"/>
              </a:rPr>
              <a:t> = </a:t>
            </a:r>
            <a:r>
              <a:rPr b="1" i="1" lang="es-CL" sz="3200" spc="-1" strike="noStrike">
                <a:solidFill>
                  <a:srgbClr val="ffffff"/>
                </a:solidFill>
                <a:latin typeface="CG Times"/>
              </a:rPr>
              <a:t>C(V, t, q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CG Times"/>
              </a:rPr>
              <a:t>R</a:t>
            </a:r>
            <a:r>
              <a:rPr b="1" lang="es-CL" sz="3200" spc="-1" strike="noStrike">
                <a:solidFill>
                  <a:srgbClr val="ffffff"/>
                </a:solidFill>
                <a:latin typeface="CG Times"/>
              </a:rPr>
              <a:t> = </a:t>
            </a:r>
            <a:r>
              <a:rPr b="1" i="1" lang="es-CL" sz="3200" spc="-1" strike="noStrike">
                <a:solidFill>
                  <a:srgbClr val="ffffff"/>
                </a:solidFill>
                <a:latin typeface="CG Times"/>
              </a:rPr>
              <a:t>P(t) 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CG Times"/>
              </a:rPr>
              <a:t>G</a:t>
            </a:r>
            <a:r>
              <a:rPr b="1" lang="es-CL" sz="3200" spc="-1" strike="noStrike">
                <a:solidFill>
                  <a:srgbClr val="ffffff"/>
                </a:solidFill>
                <a:latin typeface="CG Times"/>
              </a:rPr>
              <a:t> = </a:t>
            </a:r>
            <a:r>
              <a:rPr b="1" i="1" lang="es-CL" sz="3200" spc="-1" strike="noStrike">
                <a:solidFill>
                  <a:srgbClr val="ffffff"/>
                </a:solidFill>
                <a:latin typeface="CG Times"/>
              </a:rPr>
              <a:t>V-C-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438280" y="439092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A18-D546-4321-849D-2296047E66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-1105200" y="3607200"/>
            <a:ext cx="1108188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V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CG Times"/>
              </a:rPr>
              <a:t>t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 =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: Pérdida de ingreso por alejamiento del </a:t>
            </a: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CBD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C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CG Times"/>
              </a:rPr>
              <a:t>v</a:t>
            </a: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 V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CG Times"/>
              </a:rPr>
              <a:t>t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  : Cambio marginal CO por menor del volumen de nego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C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CG Times"/>
              </a:rPr>
              <a:t>t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 =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: Cambio marginal CO por alejamiento del </a:t>
            </a: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CBD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q(dP/dt)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 : Disminución en el precio del sue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V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CG Times"/>
              </a:rPr>
              <a:t>q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: Cambio marginal en el volumen de ven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C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CG Times"/>
              </a:rPr>
              <a:t>v</a:t>
            </a: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 V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CG Times"/>
              </a:rPr>
              <a:t>q</a:t>
            </a: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 :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 Cambio en CO por aumento en el volumen de ven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C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CG Times"/>
              </a:rPr>
              <a:t>q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: Cambio marginal CO por de aumento del tamaño del terren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13E-4039-4684-A44A-02E03D0970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862360" y="2646360"/>
                <a:ext cx="4174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39E-8DE3-45ED-BFF6-25F1336FC5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60000">
            <a:off x="849240" y="284400"/>
            <a:ext cx="10661400" cy="480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60000">
            <a:off x="963360" y="-186480"/>
            <a:ext cx="1066140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60000">
            <a:off x="1127520" y="-529920"/>
            <a:ext cx="106603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216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27280" y="1816200"/>
            <a:ext cx="4673520" cy="2679480"/>
          </a:xfrm>
          <a:custGeom>
            <a:avLst/>
            <a:gdLst/>
            <a:ahLst/>
            <a:rect l="l" t="t" r="r" b="b"/>
            <a:pathLst>
              <a:path w="2944" h="1688">
                <a:moveTo>
                  <a:pt x="16" y="0"/>
                </a:moveTo>
                <a:cubicBezTo>
                  <a:pt x="8" y="152"/>
                  <a:pt x="0" y="304"/>
                  <a:pt x="112" y="528"/>
                </a:cubicBezTo>
                <a:cubicBezTo>
                  <a:pt x="224" y="752"/>
                  <a:pt x="320" y="1160"/>
                  <a:pt x="688" y="1344"/>
                </a:cubicBezTo>
                <a:cubicBezTo>
                  <a:pt x="1056" y="1528"/>
                  <a:pt x="1944" y="1576"/>
                  <a:pt x="2320" y="1632"/>
                </a:cubicBezTo>
                <a:cubicBezTo>
                  <a:pt x="2696" y="1688"/>
                  <a:pt x="2820" y="1684"/>
                  <a:pt x="2944" y="168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2BB-8EB7-4322-A07F-FE0F7F530F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350-3DBA-4418-84D5-B30EA569E3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9F2-4B6E-45D8-8F8E-3F9D00C2C02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08000" y="3174120"/>
            <a:ext cx="81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9D7-5316-4589-B2CF-F29337C1A6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63280" y="487584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C49-7298-4395-AE92-00EEEF740F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60000">
            <a:off x="1574280" y="-76932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300000">
            <a:off x="2521800" y="-1445040"/>
            <a:ext cx="548352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01492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01492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20000">
            <a:off x="1479240" y="2945160"/>
            <a:ext cx="12013560" cy="163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2" y="20534"/>
                </a:moveTo>
                <a:arcTo wR="10800" hR="10800" stAng="6940080" swAng="3866601"/>
                <a:lnTo>
                  <a:pt x="10800" y="10800"/>
                </a:lnTo>
                <a:close/>
              </a:path>
              <a:path fill="none" w="21600" h="21600">
                <a:moveTo>
                  <a:pt x="6122" y="20534"/>
                </a:moveTo>
                <a:arcTo wR="10800" hR="10800" stAng="6940080" swAng="3866601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92000">
            <a:off x="2492640" y="-1492920"/>
            <a:ext cx="548280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58" y="17536"/>
                </a:moveTo>
                <a:arcTo wR="10800" hR="10800" stAng="8484575" swAng="2317105"/>
                <a:lnTo>
                  <a:pt x="10800" y="10800"/>
                </a:lnTo>
                <a:close/>
              </a:path>
              <a:path fill="none" w="21600" h="21600">
                <a:moveTo>
                  <a:pt x="2358" y="17536"/>
                </a:moveTo>
                <a:arcTo wR="10800" hR="10800" stAng="8484575" swAng="231710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60000">
            <a:off x="1569240" y="-767160"/>
            <a:ext cx="11690640" cy="546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4" y="20793"/>
                </a:moveTo>
                <a:arcTo wR="10800" hR="10800" stAng="6737166" swAng="1612575"/>
                <a:lnTo>
                  <a:pt x="10800" y="10800"/>
                </a:lnTo>
                <a:close/>
              </a:path>
              <a:path fill="none" w="21600" h="21600">
                <a:moveTo>
                  <a:pt x="6704" y="20793"/>
                </a:moveTo>
                <a:arcTo wR="10800" hR="10800" stAng="6737166" swAng="161257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20000">
            <a:off x="1461960" y="2957040"/>
            <a:ext cx="12009600" cy="163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09" swAng="1368189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09" swAng="1368189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60000">
            <a:off x="1395000" y="-61668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60000">
            <a:off x="1874520" y="-851760"/>
            <a:ext cx="1168956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BE9-4E54-48CD-B46E-9B5848AD31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n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F8D-343C-4936-836E-52C4B38A0F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80880" y="1371600"/>
          <a:ext cx="8763120" cy="261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763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40F-5850-4ECC-ABBC-9A2F8C71FB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342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66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67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72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77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82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4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87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517-0D7F-4319-8628-6DD9A39C62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D32-BE2C-4F02-B7DC-E9844B7C269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E77-D75D-4563-857A-816C0B4419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a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D51-401D-4C6E-BF2B-06B9E910189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A5C-8A83-45A2-95FA-01ED87377CA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1" name="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5480" y="1703880"/>
              <a:ext cx="4431240" cy="3381120"/>
            </a:xfrm>
            <a:custGeom>
              <a:avLst/>
              <a:gdLst/>
              <a:ahLst/>
              <a:rect l="l" t="t" r="r" b="b"/>
              <a:pathLst>
                <a:path w="3216" h="2496">
                  <a:moveTo>
                    <a:pt x="0" y="0"/>
                  </a:moveTo>
                  <a:cubicBezTo>
                    <a:pt x="44" y="296"/>
                    <a:pt x="88" y="592"/>
                    <a:pt x="240" y="864"/>
                  </a:cubicBezTo>
                  <a:cubicBezTo>
                    <a:pt x="392" y="1136"/>
                    <a:pt x="624" y="1416"/>
                    <a:pt x="912" y="1632"/>
                  </a:cubicBezTo>
                  <a:cubicBezTo>
                    <a:pt x="1200" y="1848"/>
                    <a:pt x="1584" y="2016"/>
                    <a:pt x="1968" y="2160"/>
                  </a:cubicBezTo>
                  <a:cubicBezTo>
                    <a:pt x="2352" y="2304"/>
                    <a:pt x="2992" y="2432"/>
                    <a:pt x="3216" y="249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0080" y="1833840"/>
              <a:ext cx="3703680" cy="3251160"/>
            </a:xfrm>
            <a:custGeom>
              <a:avLst/>
              <a:gdLst/>
              <a:ahLst/>
              <a:rect l="l" t="t" r="r" b="b"/>
              <a:pathLst>
                <a:path w="2688" h="2400">
                  <a:moveTo>
                    <a:pt x="0" y="2400"/>
                  </a:moveTo>
                  <a:cubicBezTo>
                    <a:pt x="280" y="2360"/>
                    <a:pt x="560" y="2320"/>
                    <a:pt x="816" y="2208"/>
                  </a:cubicBezTo>
                  <a:cubicBezTo>
                    <a:pt x="1072" y="2096"/>
                    <a:pt x="1280" y="2000"/>
                    <a:pt x="1536" y="1728"/>
                  </a:cubicBezTo>
                  <a:cubicBezTo>
                    <a:pt x="1792" y="1456"/>
                    <a:pt x="2160" y="864"/>
                    <a:pt x="2352" y="576"/>
                  </a:cubicBezTo>
                  <a:cubicBezTo>
                    <a:pt x="2544" y="288"/>
                    <a:pt x="2624" y="104"/>
                    <a:pt x="2688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2640" y="4856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4520" y="17352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8880" y="5441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30E-F6ED-44CF-8CD3-6F880FE4D76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980-5936-427D-99FE-18D94DA9310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CA7A-BE90-4612-98AF-B0A65C0DA80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Universidad de Chile</cp:lastModifiedBy>
  <dcterms:modified xsi:type="dcterms:W3CDTF">2001-08-20T16:59:47Z</dcterms:modified>
  <cp:revision>107</cp:revision>
  <dc:subject/>
  <dc:title>General</dc:title>
</cp:coreProperties>
</file>